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ED67F-ED2B-4EF2-9DB8-449BDD7A6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A0920-DD85-466B-862E-4BED6B979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177C7-701C-4DCD-BDDA-2FED346CA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8C721-9882-408E-8E00-41645B066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F86F8-E323-4707-B11D-E27B417CF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381C6-BD51-4E97-A44D-C7DBD09E2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AD7D8-65CE-431C-8599-2A45D351C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1F64A-7968-4350-A67C-1E0847930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9E642-60BC-422A-9D05-E49B282FA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8EC71-8944-45F9-A166-A7DF31E02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7E251-1DC9-482E-A65A-526EA22AB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F4079-F84A-4A62-A888-41D3CB7C0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6F81B-7F44-4380-9771-05F55B006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681BA-97BB-476D-83B3-6EAF9C560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5AB7A-E4EF-4E48-ABAA-E4A0EC2A7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92C3B-B5E9-4891-9659-D11E47649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FAEA9-D4B5-4779-B4C4-8A84A4EDB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0D3A2-479D-43C7-B23E-6B2A8E354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64E5B-FE09-446F-9031-EC891A379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A8343-F856-466A-84F0-D4538D6C6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524C0-71B6-4E32-B3E5-464D7A519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AE1B7-3BCC-4E0B-ABDC-55CF4F237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1349F-44A1-45AB-88C0-A7124C274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D3B37-884D-43CC-B43E-944D06B44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DAC83-2BC0-4C4D-9397-55F9D313C57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8092D-3154-4357-B94E-C67290AD13C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3366ff"/>
                </a:solidFill>
                <a:latin typeface="Comic Sans MS"/>
              </a:rPr>
              <a:t>Honduras 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"/>
          <p:cNvSpPr/>
          <p:nvPr/>
        </p:nvSpPr>
        <p:spPr>
          <a:xfrm>
            <a:off x="4473720" y="3052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honduras" descr=""/>
          <p:cNvPicPr/>
          <p:nvPr/>
        </p:nvPicPr>
        <p:blipFill>
          <a:blip r:embed="rId2"/>
          <a:stretch/>
        </p:blipFill>
        <p:spPr>
          <a:xfrm>
            <a:off x="0" y="1557360"/>
            <a:ext cx="9144000" cy="53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66ff"/>
                </a:solidFill>
                <a:latin typeface="Comic Sans MS"/>
              </a:rPr>
              <a:t>População De Hondura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39261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Comic Sans MS"/>
              </a:rPr>
              <a:t>População em 2003 6.669.789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Comic Sans MS"/>
              </a:rPr>
              <a:t>População em 2008 7.639.327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6689880" y="6991200"/>
          <a:ext cx="2154240" cy="190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689880" y="6991200"/>
                    <a:ext cx="2154240" cy="19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66ff"/>
                </a:solidFill>
                <a:latin typeface="Comic Sans MS"/>
              </a:rPr>
              <a:t>Economia 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50720" indent="-45072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66ff"/>
                </a:solidFill>
                <a:latin typeface="Comic Sans MS"/>
              </a:rPr>
              <a:t>O Honduras é um dos países mais pobres do hemisfério ocidental e a sua economia é baseada na agricultura e a madeira foi afectada fortemente pelo fenômeno climático Del Niño em 1997, sobretudo pelos incêndios florestai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66ff"/>
                </a:solidFill>
                <a:latin typeface="Comic Sans MS"/>
              </a:rPr>
              <a:t>Além das bananas e o café, principais os produtos agrícolas do país são os feijões, o algodão, o milho, o arroz, o sorgo e o açúcar; há também produtos lácteos,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66ff"/>
                </a:solidFill>
                <a:latin typeface="Comic Sans MS"/>
              </a:rPr>
              <a:t>Mineração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000" spc="-1" strike="noStrike">
                <a:solidFill>
                  <a:srgbClr val="3366ff"/>
                </a:solidFill>
                <a:latin typeface="Comic Sans MS"/>
              </a:rPr>
              <a:t>Existe um grande complexo hidrelétrico a sudeste de San Pedro Sula, em El Cajón. Os principais recursos minerais do país são zinco, chumbo, prata e ouro, explorados, sobretudo nas minas de El Mochito. A exploração de petróleo é financiada pelo Banco Mundial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66ff"/>
                </a:solidFill>
                <a:latin typeface="Comic Sans MS"/>
              </a:rPr>
              <a:t>Trabalho de geografia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3366ff"/>
                </a:solidFill>
                <a:latin typeface="Comic Sans MS"/>
              </a:rPr>
              <a:t>Nome:Renan Zanetti Ze Maconh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3366ff"/>
                </a:solidFill>
                <a:latin typeface="Comic Sans MS"/>
              </a:rPr>
              <a:t>Nome: Murilo Zanesco</a:t>
            </a:r>
            <a:r>
              <a:rPr b="0" lang="pt-BR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t-BR" sz="3000" spc="-1" strike="noStrike">
                <a:solidFill>
                  <a:srgbClr val="3366ff"/>
                </a:solidFill>
                <a:latin typeface="Verdana"/>
              </a:rPr>
              <a:t>Ze bulax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3366ff"/>
                </a:solidFill>
                <a:latin typeface="Verdana"/>
              </a:rPr>
              <a:t>Nome: Igor ramos</a:t>
            </a:r>
            <a:r>
              <a:rPr b="0" lang="pt-BR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t-BR" sz="3000" spc="-1" strike="noStrike">
                <a:solidFill>
                  <a:srgbClr val="3366ff"/>
                </a:solidFill>
                <a:latin typeface="Verdana"/>
              </a:rPr>
              <a:t>Xit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0T00:28:26Z</dcterms:created>
  <dc:creator>.</dc:creator>
  <dc:description/>
  <dc:language>en-US</dc:language>
  <cp:lastModifiedBy>E.E. Senador Filinto Muller</cp:lastModifiedBy>
  <dcterms:modified xsi:type="dcterms:W3CDTF">2009-09-10T18:45:57Z</dcterms:modified>
  <cp:revision>3</cp:revision>
  <dc:subject/>
  <dc:title>Honduras </dc:title>
</cp:coreProperties>
</file>